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wmf" ContentType="image/x-wmf"/>
  <Override PartName="/ppt/media/image6.wmf" ContentType="image/x-wmf"/>
  <Override PartName="/ppt/media/image5.wmf" ContentType="image/x-wmf"/>
  <Override PartName="/ppt/media/camera.wav" ContentType="audio/x-wav"/>
  <Override PartName="/ppt/media/gunshot.wav" ContentType="audio/x-wav"/>
  <Override PartName="/ppt/media/laser.wav" ContentType="audio/x-wav"/>
  <Override PartName="/ppt/media/driveby.wav" ContentType="audio/x-wav"/>
  <Override PartName="/ppt/media/chimes.wav" ContentType="audio/x-wav"/>
  <Override PartName="/ppt/media/ricochet.wav" ContentType="audio/x-wav"/>
  <Override PartName="/ppt/media/caralarmoff.wav" ContentType="audio/x-wav"/>
  <Override PartName="/ppt/media/image2.wmf" ContentType="image/x-wmf"/>
  <Override PartName="/ppt/media/projctor.wav" ContentType="audio/x-wav"/>
  <Override PartName="/ppt/media/image1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1E8-17B1-40B4-8DEA-8BAFDA8C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10E-7DE3-464D-8539-8BC96127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1C7-60F1-4149-967D-7CC5C2EA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570-B7D6-425B-818C-EEFAB968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0AA-A5E8-45A8-9D0C-772124CE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EB4-C73E-420C-BBA7-AF276184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B4D-A314-4890-8B3A-E008F821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8D1-77BE-4223-86BC-3785FEB9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311-9271-4637-AFE3-3EF6E0EB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DEB-6464-4065-ACDB-55F7973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B1A-D8B3-40AC-87C8-44D1B0C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488A-9CAE-4958-B478-68C9594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91FF-3012-4F31-87B2-119E8CA6C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driveby.wav"/><Relationship Id="rId6" Type="http://schemas.openxmlformats.org/officeDocument/2006/relationships/audio" Target="../media/laser.wav"/><Relationship Id="rId7" Type="http://schemas.openxmlformats.org/officeDocument/2006/relationships/audio" Target="../media/ricochet.wav"/><Relationship Id="rId8" Type="http://schemas.openxmlformats.org/officeDocument/2006/relationships/audio" Target="../media/ricochet.wav"/><Relationship Id="rId9" Type="http://schemas.openxmlformats.org/officeDocument/2006/relationships/audio" Target="../media/gunshot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caralarmoff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caralarmoff.wav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gunshot.wav"/><Relationship Id="rId10" Type="http://schemas.openxmlformats.org/officeDocument/2006/relationships/audio" Target="../media/caralarmoff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audio" Target="../media/caralarmoff.wav"/><Relationship Id="rId14" Type="http://schemas.openxmlformats.org/officeDocument/2006/relationships/audio" Target="../media/caralarmoff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audio" Target="../media/caralarmoff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projctor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audio" Target="../media/chimes.wav"/><Relationship Id="rId6" Type="http://schemas.openxmlformats.org/officeDocument/2006/relationships/audio" Target="../media/projctor.wav"/><Relationship Id="rId7" Type="http://schemas.openxmlformats.org/officeDocument/2006/relationships/audio" Target="../media/ricochet.wav"/><Relationship Id="rId8" Type="http://schemas.openxmlformats.org/officeDocument/2006/relationships/audio" Target="../media/laser.wav"/><Relationship Id="rId9" Type="http://schemas.openxmlformats.org/officeDocument/2006/relationships/audio" Target="../media/projcto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Use the stem-and-leaf plot from Example 1 to list the data in in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438280"/>
            <a:ext cx="45720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3623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2438280"/>
            <a:ext cx="167652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3 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267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267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00400" y="5638680"/>
            <a:ext cx="2819520" cy="483840"/>
            <a:chOff x="3200400" y="5638680"/>
            <a:chExt cx="2819520" cy="483840"/>
          </a:xfrm>
        </p:grpSpPr>
        <p:sp>
          <p:nvSpPr>
            <p:cNvPr id="50" name=""/>
            <p:cNvSpPr/>
            <p:nvPr/>
          </p:nvSpPr>
          <p:spPr>
            <a:xfrm>
              <a:off x="3200400" y="5638680"/>
              <a:ext cx="28195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Key:  3   1 = 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24280" y="5638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572000" y="2286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286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2286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2286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8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5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743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ake an ordered stem-and-leaf plot for the data and use the result to list the data in increasing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4572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33526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429000"/>
            <a:ext cx="16765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2  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6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8   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352680" y="5334120"/>
            <a:ext cx="2819520" cy="483840"/>
            <a:chOff x="3352680" y="5334120"/>
            <a:chExt cx="2819520" cy="483840"/>
          </a:xfrm>
        </p:grpSpPr>
        <p:sp>
          <p:nvSpPr>
            <p:cNvPr id="71" name=""/>
            <p:cNvSpPr/>
            <p:nvPr/>
          </p:nvSpPr>
          <p:spPr>
            <a:xfrm>
              <a:off x="3352680" y="5334120"/>
              <a:ext cx="28195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Key:  3   1 = 3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6560" y="5334120"/>
              <a:ext cx="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6483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3429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4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1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34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3429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34290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6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7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3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8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8862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16    7    38    19    11    26    2    33    27    39  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14300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914400"/>
            <a:ext cx="68580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, the sum of the numbers divided by the number of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514600"/>
            <a:ext cx="18288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2286000"/>
            <a:ext cx="64008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ddle number when the numbers are written in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88620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3657600"/>
            <a:ext cx="685800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umber that occurs the most frequ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Find the mean, median, and mode of the data in Exercis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    2    7    11    16    19    26    27    33    38    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514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3048120"/>
          <a:ext cx="861048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8610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3520" y="2895480"/>
          <a:ext cx="8181720" cy="12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8181720" cy="12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4267080"/>
          <a:ext cx="118764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267080"/>
                    <a:ext cx="1187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14600" y="4648320"/>
          <a:ext cx="1447920" cy="69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648320"/>
                    <a:ext cx="1447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a Stem-and-Leaf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Find the mean, median, and mode of the data in Exercis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057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imes New Roman"/>
              </a:rPr>
              <a:t>2    2    7    11    16    19    26    27    33    38    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di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81080" y="2743200"/>
          <a:ext cx="1447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1447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33920" y="1905120"/>
            <a:ext cx="914400" cy="914400"/>
          </a:xfrm>
          <a:prstGeom prst="ellipse">
            <a:avLst/>
          </a:prstGeom>
          <a:noFill/>
          <a:ln w="442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01960" y="3886200"/>
          <a:ext cx="110016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3886200"/>
                    <a:ext cx="1100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36:43Z</dcterms:created>
  <dc:creator>Teacher</dc:creator>
  <dc:description/>
  <dc:language>en-US</dc:language>
  <cp:lastModifiedBy>damon.skelton</cp:lastModifiedBy>
  <dcterms:modified xsi:type="dcterms:W3CDTF">2005-11-11T14:58:58Z</dcterms:modified>
  <cp:revision>76</cp:revision>
  <dc:subject/>
  <dc:title>PowerPoint Presentation</dc:title>
</cp:coreProperties>
</file>